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824-C564-451F-BD2D-07BDC92B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CE0-A711-4901-8026-5CA860B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2C1-12BA-46AE-A1DA-E6AA7D6A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5F2-4CA3-4CF1-90A4-DC3AFD9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F4D-51F5-4012-87CF-4EA83BEB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BDB-5FC3-4189-8BD6-80E235AC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360-7C70-46D8-A17C-4D3A0EA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5B0-871E-429F-91BF-0229657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BF4-37D3-49A7-A84F-4D4486B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32A-D1F5-47C6-A56B-BA5F439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C6F-5730-4AC1-AE7A-AE9361D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D20-34F2-4E15-9476-6EB10BD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D7E-245F-4776-AA15-BF7EBE127C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37" t="0" r="12545" b="57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je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tude d’une éolie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0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t L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1284480" cy="73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10792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2562" r="0" b="16226"/>
          <a:stretch/>
        </p:blipFill>
        <p:spPr>
          <a:xfrm>
            <a:off x="3708360" y="1773360"/>
            <a:ext cx="5256360" cy="287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55760" y="692280"/>
            <a:ext cx="1943280" cy="1990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22301" b="35025"/>
          <a:stretch/>
        </p:blipFill>
        <p:spPr>
          <a:xfrm>
            <a:off x="2268360" y="1628640"/>
            <a:ext cx="6875640" cy="431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ISATION 3D : SOLID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57360"/>
            <a:ext cx="914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692280"/>
            <a:ext cx="68756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UA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énuries de pétrol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ût du carbura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échauffement climatiqu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éveloppement des énergies renouvelables et en particulier de la technologie éolie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vantage 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ource d’énergie inépuisable permettant la transformation de l’énergie mécanique en énergie électr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692280"/>
            <a:ext cx="68756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imensionnement de l’éolienne p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’étude du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a définition de sa pu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e calcul de sa t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Modélisation 3D de l’éolienne et en particulier de la partie transformation et transmission de puissance (Solid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UDE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687564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llage de 300 habitants situé dans les Monts d’Arrée, lie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u rentable pour être connecté a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nteux : temps de fonctionnement par an él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écessité de défin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consommation d’électricité par an et par hab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vitesse moyenne du vent sur le lieu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 temps de fonctionnement sur un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692280"/>
            <a:ext cx="687564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étermination de la consommation annue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Nombre d’habitants :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onsommation : 2 MWh/an/h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00 MWh/an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(quantité d’énergie à produire par l’éolien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Temps de fonctionnem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2000h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uissance de l’éolienne : 0,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284640"/>
            <a:ext cx="6875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alcul de la puissance du 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Vitesse moyenne du v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7,5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Formu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uissance transmise à l’éolienne (Betz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79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81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268360" y="6922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éma de princ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365720"/>
            <a:ext cx="33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0,5.π.r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v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877000"/>
            <a:ext cx="43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éolienne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(16/27).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MEN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3284640"/>
            <a:ext cx="6480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issance à la sort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 du ray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4005360"/>
            <a:ext cx="259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127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" name="" descr=""/>
          <p:cNvPicPr/>
          <p:nvPr/>
        </p:nvPicPr>
        <p:blipFill>
          <a:blip r:embed="rId1"/>
          <a:srcRect l="0" t="0" r="36495" b="76398"/>
          <a:stretch/>
        </p:blipFill>
        <p:spPr>
          <a:xfrm>
            <a:off x="3924360" y="5734080"/>
            <a:ext cx="3097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981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équence de rotatio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 épicycloïdal = Multiplic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0" y="2349360"/>
            <a:ext cx="6858000" cy="3527280"/>
            <a:chOff x="2286000" y="2349360"/>
            <a:chExt cx="6858000" cy="3527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0" t="5340" r="0" b="26085"/>
            <a:stretch/>
          </p:blipFill>
          <p:spPr>
            <a:xfrm>
              <a:off x="2286000" y="2349360"/>
              <a:ext cx="68580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646360" y="422100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2360" y="443664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58000" y="4221000"/>
              <a:ext cx="1152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3573360"/>
              <a:ext cx="115236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3280" y="3573360"/>
              <a:ext cx="115272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47:49Z</dcterms:created>
  <dc:creator>CRI</dc:creator>
  <dc:description/>
  <dc:language>en-US</dc:language>
  <cp:lastModifiedBy> SCHNEIDER</cp:lastModifiedBy>
  <dcterms:modified xsi:type="dcterms:W3CDTF">2007-11-03T11:42:30Z</dcterms:modified>
  <cp:revision>30</cp:revision>
  <dc:subject/>
  <dc:title>Diapositive 1</dc:title>
</cp:coreProperties>
</file>